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643-D6E3-4A0B-AD13-894F8884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F4D-AEDC-4816-900C-4EF04A24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93A-5A0D-4DFB-942C-6A4905FE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3B7-3657-4310-95B1-CA33E5E5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A40D-8F68-45C6-8228-F5E85450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FB2E-6A39-4722-BA8D-F03C5AFF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2705-1843-480C-B872-F86DB563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0CE9-7E0A-4AC3-9BBC-A1E8593A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D283-45BE-451B-972C-4A9EE05C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076B-A103-4AA2-B985-56D2124B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AD1D-1571-4379-970A-9C061233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A7A-73C0-4180-AC4F-F53BDBB8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7330-7CE5-4483-ABAE-4CAE7672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95A4-5CE4-4849-ACF4-7A2DB85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2588-D0A0-47DB-8582-4BA0E388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E7AF-A6E5-47AD-8970-3A672317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4E52-218B-483E-B154-02DC880F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2DB-6136-4761-976B-7190B1F0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729-8ADB-4367-91FB-429C8CDC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25E-36FF-4423-A83E-1A5D3DEC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C20-AB02-408C-AB12-63525F21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E56-89CF-48A8-A263-C91A0DFB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9AE-9D7C-474A-8E6F-ED51B7B8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C8E-7AEE-49CC-AA36-89FE86F4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228D-529E-4914-8DCF-D40F5757096F}" type="slidenum"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F70E-4585-4F81-B363-EA52B4667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rbage Col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CS 280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Joachim Feise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jfeise@ics.uci.edu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mispace Collector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3" name="semi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487760" cy="2805120"/>
          </a:xfrm>
          <a:prstGeom prst="rect">
            <a:avLst/>
          </a:prstGeom>
          <a:ln w="0">
            <a:noFill/>
          </a:ln>
        </p:spPr>
      </p:pic>
      <p:pic>
        <p:nvPicPr>
          <p:cNvPr id="144" name="semi2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4470480" cy="27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6F4-0238-4D99-9CA5-B09DA6E449F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Non-Copying Implicit Collec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spaces are seen as set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two pointer link objects in doubly-linked list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color” field indicates which set the object belongs to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only pointer and color field changes are required to move objects between set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FD4-EBAA-47EA-82B7-5207118E8B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mental Tracing Collec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ricolor marking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using three colors to mark objects during traversal: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white: object unmarke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ray: object has been reached, but its descendants may not have bee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lack: direct descendants are traverse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Only black objects are live in the en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Coordination with application necessary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235-56C2-4978-BE0A-BD4D6F5DDF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color Marking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tricolor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759640" cy="40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DF1-91AB-41B0-BF27-72021BCF922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mental Collector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cremental Copying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ad barrier for coordination with applica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detects attempts to access pointers to white objec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hides temporary inconsistencies from applicatio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objects allocated during collection are assumed to be liv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re not claimed during current GC cycle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AEE-FE29-4BE0-BB49-C443F42034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mental Collector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e Treadmil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links lists into cyclic structur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ivided into four sections: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New, Free, From, T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ections move around the cycl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EFE-31BD-436B-B9A3-1E0D157820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dmil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6" name="tread1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11956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645-6644-4927-A147-77A4D65A76D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mental Collector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Write-Barrier Algorithm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napshot-at-beginning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take a snapshot of the graph at the beginning of GC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if pointers are overwritten, GC can still find the objec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cremental updat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atch pointer writes into black (i.e., live) objec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hange object status to gray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1C6-EFE2-4335-BAF2-7B9EBB7692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tional Garbage Col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bservations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ost objects live a very short tim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Only a small percentage lives much longer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lder objects are copied over and over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egregate objects into multiple areas by ag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un GC less often on older object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ample: Multiple subheap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851-74D3-4E86-8AF8-605EFD94CF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Subheaps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gen2" descr=""/>
          <p:cNvPicPr/>
          <p:nvPr/>
        </p:nvPicPr>
        <p:blipFill>
          <a:blip r:embed="rId1"/>
          <a:stretch/>
        </p:blipFill>
        <p:spPr>
          <a:xfrm>
            <a:off x="0" y="1600200"/>
            <a:ext cx="4762440" cy="4937040"/>
          </a:xfrm>
          <a:prstGeom prst="rect">
            <a:avLst/>
          </a:prstGeom>
          <a:ln w="0">
            <a:noFill/>
          </a:ln>
        </p:spPr>
      </p:pic>
      <p:pic>
        <p:nvPicPr>
          <p:cNvPr id="163" name="gen1" descr=""/>
          <p:cNvPicPr/>
          <p:nvPr/>
        </p:nvPicPr>
        <p:blipFill>
          <a:blip r:embed="rId2"/>
          <a:stretch/>
        </p:blipFill>
        <p:spPr>
          <a:xfrm>
            <a:off x="4344840" y="1523880"/>
            <a:ext cx="4799160" cy="48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11F-0E6C-44AC-9274-21ADECE44B0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Garbage Collecti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utomatic reclamation of computer storag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objects not reachable via any pointer are considered garbag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live objects are preserved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Two phases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garbage detec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reclaiming the storag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2C8-F7F5-4E59-B0FA-E076F41EAF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g-Free Garbage Col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raditionally, GC (and type checking) required each datum to be tagged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trongly typed languages don’t need tag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ype checking is done at compile tim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however, languages like ML keep tags for GC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pace and time overhea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BE0-6ECD-4FA0-8BF1-04D53B9A5D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g-Free Garbage Collection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ompiler can generate code necessary to support GC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de is specific to program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mpiler knows type of each datum, so no tagging is require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for each type in the program, there is a GC routine that manipulates objects of that typ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for each procedure, compiler generates GC routin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443-5FC1-46F0-AEE2-EE03893DCC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g-Free GC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ore efficient use of heap spac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ore efficient execu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ore accurate recognition of live data and garbag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isadvantage: increase in code size, bu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impler garbage routin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cognition of program points that can cause GC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98C-44E4-4A54-8253-CB38DE0D23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pretive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ach type has associated encoding of the type structur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ncoding is a parse-tree like representation called descriptor or templat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 traverses descriptor to determine how to handle the substructur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79F-401B-4C14-A86F-C42E0BCFD5F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iled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 routines generated by compiler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needs to locate gc routin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se of tabl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oblem: table update required for every creation of local variable on heap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etter: use of return address pointers to determine which gc routine is associated with stack fram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observation: gc can only be initiated by call to a procedure (like cons, new, malloc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5B6-EF66-4C07-9166-1B6BF50A932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ck/Code Organization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stack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6207120" cy="504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563-73F9-4670-95BE-10729AEF725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ymorphism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L implementations execute the same code for all calls to a polymorphic func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gc routine can not know precisely all variable structur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alling procedures can be examine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oblem: fair amount of stack traversing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etter: stack traversal from oldest activation record to the most recent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may require initial traversal to perform pointer-reversal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681-DB0F-4501-9CF8-44373383A6A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tension to Languages with Tas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da model: multiple tasks operating in a shared memory environmen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ll tasks must be suspended during GC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asks suspended immediately upon allocation attempt might not be in consistent state for GC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: tasks are suspended only on procedure call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might allow some processes to run for a long time while others are suspende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A0F-A312-45E8-A243-254657DA141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iler Support for GC in Statically Typed Langu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avoidance of use of special hardware support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se of highly-optimizing compiler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no defeat or disallowance of compiler optimization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challenge since compiler/optimizer may introduce complex pointer manipulation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avoidance of tagging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mpiler knows which global variables, stack locations and registers contain pointer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205-7EA0-48E5-A4BA-FE1F879BD96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iler Support for GC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Low-level requirements of collector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etermine size of objects on heap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locate pointers in heap object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locate pointers in global variabl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find all references in stack and register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find objects referred to using pointer arithmetic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pdate values obtained using pointer arithmetic when objects are move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FC7-D146-4AC5-BDBD-E44675091B2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Reference counting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each object has associated count of the references (pointers) to it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object’s memory may be reclaimed when count reaches zero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incremental, interleaved closely with program execu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C3E-C9FF-47B9-817C-2BB024236E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plementation for use in Modula-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ype descriptors in heap object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tatically typed language makes compile-time location of pointers in global variables easy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tack and register assignment may vary even within a procedur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ointer update and following is complicated if pointer is untidy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3DD-C036-4D24-88CF-5938E80F181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tidy Poin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troduced by language features or optimization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rength reduc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virtual array origi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S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ouble indexing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usually involves pointer arithmetic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erived values are created by pointer arithmetic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ase values are values participating in deriva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028-A7C6-4C74-96F1-8FC2829D95D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Tables for G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onstruct tables at compile time to assist in locating and updating all pointer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ne set of tables per gc-poin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gc-points: where gc can occur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ree kinds of tables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tack pointers: live tidy pointers in stack fram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gister pointers: live tidy pointers in register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erivations: live derived valu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36F-E78B-406F-B7A9-E83CC3D2653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Tables for GC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 needs to locate the tabl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se return addresses from stack frames to search a table that maps gc-points to gc tabl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use of register tables requires additional information about saved register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erivation tables are needed to update derived values when base values chang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551-34C7-4249-9262-B9AD6F0D465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ed Value Upd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wo-step proces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Courier New"/>
              </a:rPr>
              <a:t>a := b1 + b3 - b2 + 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alculate E by applying the inverse operation for each base value: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Courier New"/>
              </a:rPr>
              <a:t>a := a - b1 - b3 + b2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note: derived value must be updated before any of its base valu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after gc, reconstruct derived values from updated base valu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103-8E15-44F1-8D02-29D771D6CF3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tion Table Assump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e base values are live whenever values derived from them are liv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allows to update derived values in the first plac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perations used in the derivation have invers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urrent implementation handles + and - only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tension to non-invertible operations would require redesign of tabl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122-162D-48DF-883B-DDAE0FDECFC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base value may die before derived value do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ultiple derivations of a value reaching a gc-poin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direct references used as base values in a deriva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52F-05A3-4505-AFC1-ABAFFD6BBFE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deadbase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089520" cy="2236680"/>
          </a:xfrm>
          <a:prstGeom prst="rect">
            <a:avLst/>
          </a:prstGeom>
          <a:ln w="0">
            <a:noFill/>
          </a:ln>
        </p:spPr>
      </p:pic>
      <p:pic>
        <p:nvPicPr>
          <p:cNvPr id="200" name="indir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2943360" cy="1525680"/>
          </a:xfrm>
          <a:prstGeom prst="rect">
            <a:avLst/>
          </a:prstGeom>
          <a:ln w="0">
            <a:noFill/>
          </a:ln>
        </p:spPr>
      </p:pic>
      <p:pic>
        <p:nvPicPr>
          <p:cNvPr id="201" name="deriv1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2120760" cy="3297240"/>
          </a:xfrm>
          <a:prstGeom prst="rect">
            <a:avLst/>
          </a:prstGeom>
          <a:ln w="0">
            <a:noFill/>
          </a:ln>
        </p:spPr>
      </p:pic>
      <p:pic>
        <p:nvPicPr>
          <p:cNvPr id="202" name="disambig" descr=""/>
          <p:cNvPicPr/>
          <p:nvPr/>
        </p:nvPicPr>
        <p:blipFill>
          <a:blip r:embed="rId4"/>
          <a:stretch/>
        </p:blipFill>
        <p:spPr>
          <a:xfrm>
            <a:off x="3429000" y="4648320"/>
            <a:ext cx="5494320" cy="195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3FA5-0D18-46CF-85FD-1C910861BAB8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Resolv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ead base problem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onsider use of derived value as use of each of its base valu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mbiguous derivation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troduce path variables or use path splitting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indirect reference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reserving intermediate reference in stack slot or register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103-C403-40B3-B210-F5DEDE760AA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able can get very large (45% of the size of optimized code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medies: use of delta tabl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able compress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yields reduction to 16% of code siz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xecution time overhead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atio of stack tracing time to total gc time estimated between 1.7% and 6%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4FE-2F06-41D2-817B-FE3646AD77D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Reference counting problem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Problem with cycle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eference counts may never reach zer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ogrammers may need to avoid using cyclic data structur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Efficiency problem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hort-lived stack variables can cause big overhea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Treatment: Deferred Reference Counting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djust reference counts only now and the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E1A-DF60-42C0-A9F0-1A852F5DA9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chmark 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table1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6197760" cy="2525760"/>
          </a:xfrm>
          <a:prstGeom prst="rect">
            <a:avLst/>
          </a:prstGeom>
          <a:ln w="0">
            <a:noFill/>
          </a:ln>
        </p:spPr>
      </p:pic>
      <p:pic>
        <p:nvPicPr>
          <p:cNvPr id="209" name="table2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6105600" cy="26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1FC-96BA-4C45-BE00-5D91DD3E6594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ycle Problem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ref1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479840" cy="2932200"/>
          </a:xfrm>
          <a:prstGeom prst="rect">
            <a:avLst/>
          </a:prstGeom>
          <a:ln w="0">
            <a:noFill/>
          </a:ln>
        </p:spPr>
      </p:pic>
      <p:pic>
        <p:nvPicPr>
          <p:cNvPr id="133" name="ref2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441680" cy="317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F25-ACB9-49BF-8CBC-4BC4F747A8C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Mark-Sweep Collec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traversing pointer graph, marking the objects that are reached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sweeping memory to find all unmarked objects and reclaim their memory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6CA-CEB8-4BA0-9578-E483CA5EBB3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Mark-Sweep problems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variable-size objects can cause memory fragmentation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cost is proportional to heap siz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ll live objects must be marke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ll garbage objects must be collecte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locality of reference is lost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an cause problems with virtual memory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7C6-F9CF-4A14-8C4E-0B29A64CBF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Mark-Compact Collec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traverses and marks reachable object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live objects are moved until all are contiguou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rest of memory is single contiguous free spac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eliminates fragmentation problem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makes allocation easy by incrementing pointer into free spac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still, several passes over the data necessary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632-8668-4BD9-93C9-C38A5DF7CF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Techniqu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opying Garbage Collectio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moves all live objects into one area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rest of heap is then available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integration of data traversal and copying process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Example: semispace collector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heap is divided into two contiguous semispac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nly one is in us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C copies live data to other semispac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88D-1F59-4AEF-B99A-4F6B7E0459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3, 19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6T04:00:07Z</dcterms:created>
  <dc:creator>Joachim Feise</dc:creator>
  <dc:description/>
  <dc:language>en-US</dc:language>
  <cp:lastModifiedBy>Joachim Feise</cp:lastModifiedBy>
  <cp:lastPrinted>1997-05-30T03:13:45Z</cp:lastPrinted>
  <dcterms:modified xsi:type="dcterms:W3CDTF">1997-06-05T03:00:15Z</dcterms:modified>
  <cp:revision>9</cp:revision>
  <dc:subject/>
  <dc:title>Garbage Coll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ics.uci.edu/~jfeise</vt:lpwstr>
  </property>
  <property fmtid="{D5CDD505-2E9C-101B-9397-08002B2CF9AE}" pid="9" name="LinkColor">
    <vt:r8>16711782</vt:r8>
  </property>
  <property fmtid="{D5CDD505-2E9C-101B-9397-08002B2CF9AE}" pid="10" name="MailAddress">
    <vt:lpwstr>jfeise@ics.uci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E:\JOE\UCI\Spring 97\Advanced Compiler Construction\Presentation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