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B22-CDF6-4BE1-9D11-0F5F059C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3F9-AB60-4137-A1EF-C5F62FE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16A-1AC4-47A1-BF1E-A7E000E8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CF2-280F-46C9-9BF2-678A2FCD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ECFF-F49A-4C37-9F93-BDBB5B8B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8547-36CA-4D3D-A111-5755CD40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D14-BC76-4432-8EB0-54C1DE7A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5A2A-9F2C-4697-972E-4477344F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B42-F57E-40C9-A2DB-6D8D753D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01C8-A2F5-49BB-A367-25F11E86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88B4-B04C-41E8-A69A-DE868333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11C-D667-4ED5-ABD0-ADD8A6E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9AED-9BE5-4997-979B-019C7B91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DFEF-B077-4AAE-B330-7BA65D0D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E949-2BB2-4F0D-AB41-9A0D90D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E20D-BF26-43FD-BF77-4C76CAAE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8A05-FECB-4AB4-AB84-2C600EE3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491-EEAA-484C-9931-C5D1AD42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10B-C197-44D9-90FE-45B63A80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FD0-CDF2-4A98-A32F-B102FB2B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465-01D1-4394-9B27-27E782A2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048-BB7A-40E6-AA7B-3C842A0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A8D-8270-490C-A4B2-A1CAEC3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551-9B63-4E55-A91C-134DF10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D9F1-D4CC-4A56-B7C4-D575E3637ADD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F5C-98B3-4F86-AE16-2CD0073C7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rbage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CS 280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Joachim Feise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jfeise@ics.uci.edu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ispace Collector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3" name="semi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487760" cy="2805120"/>
          </a:xfrm>
          <a:prstGeom prst="rect">
            <a:avLst/>
          </a:prstGeom>
          <a:ln w="0">
            <a:noFill/>
          </a:ln>
        </p:spPr>
      </p:pic>
      <p:pic>
        <p:nvPicPr>
          <p:cNvPr id="144" name="semi2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4470480" cy="27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66A-DADE-4738-BEA0-1BEB1636EC7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Non-Copying Implicit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spaces are seen as se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wo pointer link objects in doubly-linked lis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olor” field indicates which set the object belongs to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only pointer and color field changes are required to move objects between se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629-C681-4CC5-8092-BC5C142B77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Tracing Colle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ricolor marking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using three colors to mark objects during traversal: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white: object unmark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ray: object has been reached, but its descendants may not have bee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lack: direct descendants are travers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Only black objects are live in the en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oordination with application necessar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177-934E-4D55-8BC6-9BD74657A5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color Marking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tricolor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759640" cy="40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21D-E5B0-4466-8C78-184560EC12E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Collector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cremental Copying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ad barrier for coordination with applica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etects attempts to access pointers to white objec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hides temporary inconsistencies from applicatio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objects allocated during collection are assumed to be liv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re not claimed during current GC cycl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8EF-2942-44F6-80CD-91E030DA41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Collector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Treadmil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inks lists into cyclic structur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ivided into four sections: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ew, Free, From, T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tions move around the cycl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642-B3C0-4998-ADBE-D68F211908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dmil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6" name="tread1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1956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D38-49C2-471C-A89B-7217DCAB96A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Collector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Write-Barrier Algorithm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napshot-at-beginn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ake a snapshot of the graph at the beginning of GC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if pointers are overwritten, GC can still find the objec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cremental updat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atch pointer writes into black (i.e., live) objec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nge object status to gray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EFF-5F46-411C-80BA-10C7AB7C18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tional Garbage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bservations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st objects live a very short ti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Only a small percentage lives much longe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lder objects are copied over and over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gregate objects into multiple areas by ag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un GC less often on older objec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: Multiple subheap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1CC-3EB3-46B9-8B26-8FD660173E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Subheaps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gen2" descr=""/>
          <p:cNvPicPr/>
          <p:nvPr/>
        </p:nvPicPr>
        <p:blipFill>
          <a:blip r:embed="rId1"/>
          <a:stretch/>
        </p:blipFill>
        <p:spPr>
          <a:xfrm>
            <a:off x="0" y="1600200"/>
            <a:ext cx="4762440" cy="4937040"/>
          </a:xfrm>
          <a:prstGeom prst="rect">
            <a:avLst/>
          </a:prstGeom>
          <a:ln w="0">
            <a:noFill/>
          </a:ln>
        </p:spPr>
      </p:pic>
      <p:pic>
        <p:nvPicPr>
          <p:cNvPr id="163" name="gen1" descr=""/>
          <p:cNvPicPr/>
          <p:nvPr/>
        </p:nvPicPr>
        <p:blipFill>
          <a:blip r:embed="rId2"/>
          <a:stretch/>
        </p:blipFill>
        <p:spPr>
          <a:xfrm>
            <a:off x="4344840" y="1523880"/>
            <a:ext cx="4799160" cy="48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8B4-2097-4A7E-96B0-B4AAAF1B186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Garbage Collect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utomatic reclamation of computer storag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objects not reachable via any pointer are considered garbag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live objects are preserved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wo phases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garbage detec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reclaiming the storag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606-FC04-4B0A-98A2-90A93A1484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g-Free Garbage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raditionally, GC (and type checking) required each datum to be tagged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trongly typed languages don’t need tag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ype checking is done at compile ti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however, languages like ML keep tags for G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pace and time overhea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59F-5A1A-489C-BA15-2C5B6209B6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g-Free Garbage Collec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ompiler can generate code necessary to support G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de is specific to program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mpiler knows type of each datum, so no tagging is requir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or each type in the program, there is a GC routine that manipulates objects of that typ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or each procedure, compiler generates GC routin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941-475E-4F79-8D6D-C361E912AF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g-Free GC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re efficient use of heap sp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re efficient execu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re accurate recognition of live data and garbag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sadvantage: increase in code size, bu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impler garbage routin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cognition of program points that can cause G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1AB-B788-45B3-83F2-30F02B658E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v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ach type has associated encoding of the type structur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ncoding is a parse-tree like representation called descriptor or templat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 traverses descriptor to determine how to handle the substructur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179-3107-4979-9AE7-BDEDC96379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iled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 routines generated by compiler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eeds to locate gc routin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of tabl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blem: table update required for every creation of local variable on heap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etter: use of return address pointers to determine which gc routine is associated with stack fra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bservation: gc can only be initiated by call to a procedure (like cons, new, malloc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9CA-A6A1-49B3-9FCF-F3AC6F2BD5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/Code Organization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stack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207120" cy="504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7DE-A049-4426-93C0-8ACB32B2025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ymorphism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L implementations execute the same code for all calls to a polymorphic fun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gc routine can not know precisely all variable structur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alling procedures can be examin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blem: fair amount of stack traversing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etter: stack traversal from oldest activation record to the most recen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may require initial traversal to perform pointer-reversa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250-8654-4C41-9854-9EF83094427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tension to Languages with Tas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a model: multiple tasks operating in a shared memory environme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ll tasks must be suspended during G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sks suspended immediately upon allocation attempt might not be in consistent state for G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: tasks are suspended only on procedure call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might allow some processes to run for a long time while others are suspend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AF5-AB51-4841-A805-C9DF7BF2301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iler Support for GC in Statically Typed Langu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voidance of use of special hardware suppor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of highly-optimizing compile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o defeat or disallowance of compiler optimization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challenge since compiler/optimizer may introduce complex pointer manipulatio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voidance of tagg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mpiler knows which global variables, stack locations and registers contain pointer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80A-B358-48B5-AFA7-CE0E7FF126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iler Support for GC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ow-level requirements of collector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etermine size of objects on heap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ocate pointers in heap objec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ocate pointers in global variab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ind all references in stack and register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ind objects referred to using pointer arithmeti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pdate values obtained using pointer arithmetic when objects are mov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253-EDEB-47CE-9F38-DC299409AD7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Reference counting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ach object has associated count of the references (pointers) to i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object’s memory may be reclaimed when count reaches zero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incremental, interleaved closely with program execu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35A-2685-4569-A595-3961CCBEAA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lementation for use in Modula-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ype descriptors in heap object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tatically typed language makes compile-time location of pointers in global variables easy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tack and register assignment may vary even within a procedur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ointer update and following is complicated if pointer is untidy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7AB-4424-47B4-A8E5-E487441CDAC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tidy Poin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troduced by language features or optimization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rength reduc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virtual array origi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S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ouble index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usually involves pointer arithmeti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erived values are created by pointer arithmeti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ase values are values participating in deriva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12D-E273-463C-9AD0-CBA286DB778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Tables for G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onstruct tables at compile time to assist in locating and updating all pointe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ne set of tables per gc-poi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gc-points: where gc can occu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ree kinds of tables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ack pointers: live tidy pointers in stack fra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gister pointers: live tidy pointers in register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erivations: live derived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09A-4808-4CD1-88BE-8DE0629D494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Tables for GC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 needs to locate the tabl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return addresses from stack frames to search a table that maps gc-points to gc tab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use of register tables requires additional information about saved registe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erivation tables are needed to update derived values when base values chang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A35-2957-4A2D-AA66-C4F34D928B5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ed Value Upd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wo-step proces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a := b1 + b3 - b2 + 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alculate E by applying the inverse operation for each base value: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a := a - b1 - b3 + b2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ote: derived value must be updated before any of its base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fter gc, reconstruct derived values from updated base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F3A-910F-42FF-B8C0-760880DD17D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tion Table Assum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base values are live whenever values derived from them are liv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llows to update derived values in the first pl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perations used in the derivation have invers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urrent implementation handles + and - onl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tension to non-invertible operations would require redesign of tabl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CE1-96A9-4B9A-AC51-3319E2B5DD0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ase value may die before derived value do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e derivations of a value reaching a gc-poi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direct references used as base values in a deriva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F1B-3719-4E09-9E58-3BDA3C9F5DC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deadbase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089520" cy="2236680"/>
          </a:xfrm>
          <a:prstGeom prst="rect">
            <a:avLst/>
          </a:prstGeom>
          <a:ln w="0">
            <a:noFill/>
          </a:ln>
        </p:spPr>
      </p:pic>
      <p:pic>
        <p:nvPicPr>
          <p:cNvPr id="200" name="indir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2943360" cy="1525680"/>
          </a:xfrm>
          <a:prstGeom prst="rect">
            <a:avLst/>
          </a:prstGeom>
          <a:ln w="0">
            <a:noFill/>
          </a:ln>
        </p:spPr>
      </p:pic>
      <p:pic>
        <p:nvPicPr>
          <p:cNvPr id="201" name="deriv1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120760" cy="3297240"/>
          </a:xfrm>
          <a:prstGeom prst="rect">
            <a:avLst/>
          </a:prstGeom>
          <a:ln w="0">
            <a:noFill/>
          </a:ln>
        </p:spPr>
      </p:pic>
      <p:pic>
        <p:nvPicPr>
          <p:cNvPr id="202" name="disambig" descr=""/>
          <p:cNvPicPr/>
          <p:nvPr/>
        </p:nvPicPr>
        <p:blipFill>
          <a:blip r:embed="rId4"/>
          <a:stretch/>
        </p:blipFill>
        <p:spPr>
          <a:xfrm>
            <a:off x="3429000" y="4648320"/>
            <a:ext cx="5494320" cy="19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889-A974-4936-A984-5885DF334E32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Resolv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ead base problem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nsider use of derived value as use of each of its base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mbiguous derivation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troduce path variables or use path splitt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direct referenc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reserving intermediate reference in stack slot or registe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129-801D-4F96-B88C-DBD0DED3859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able can get very large (45% of the size of optimized code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medies: use of delta tab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ble compress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yields reduction to 16% of code siz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ecution time overhead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atio of stack tracing time to total gc time estimated between 1.7% and 6%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923-4B21-4D4F-8211-5B511662E16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Reference counting problem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Problem with cyc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eference counts may never reach zer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ogrammers may need to avoid using cyclic data structur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fficiency problem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hort-lived stack variables can cause big overhea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reatment: Deferred Reference Count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djust reference counts only now and the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9E6-C591-4803-92C8-C4237764ED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chmark 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table1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197760" cy="2525760"/>
          </a:xfrm>
          <a:prstGeom prst="rect">
            <a:avLst/>
          </a:prstGeom>
          <a:ln w="0">
            <a:noFill/>
          </a:ln>
        </p:spPr>
      </p:pic>
      <p:pic>
        <p:nvPicPr>
          <p:cNvPr id="209" name="table2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6105600" cy="26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0B3-24CC-451F-AA52-5A66DF0697D0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ycle Problem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ref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479840" cy="2932200"/>
          </a:xfrm>
          <a:prstGeom prst="rect">
            <a:avLst/>
          </a:prstGeom>
          <a:ln w="0">
            <a:noFill/>
          </a:ln>
        </p:spPr>
      </p:pic>
      <p:pic>
        <p:nvPicPr>
          <p:cNvPr id="133" name="ref2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441680" cy="317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8BF-3447-4E6E-92A0-798571D2DB1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Mark-Sweep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raversing pointer graph, marking the objects that are reach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sweeping memory to find all unmarked objects and reclaim their memor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F13-B1C8-4587-9C66-DE77161E19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Mark-Sweep problem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variable-size objects can cause memory fragmenta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ost is proportional to heap siz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ll live objects must be mark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ll garbage objects must be collect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locality of reference is los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an cause problems with virtual memory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C73-23EB-489D-A0C6-0800C91D5C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Mark-Compact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raverses and marks reachable objec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live objects are moved until all are contiguou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rest of memory is single contiguous free sp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liminates fragmentation problem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makes allocation easy by incrementing pointer into free sp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still, several passes over the data necessar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C89-6207-46E1-81F0-680982D2A1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opying Garbage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moves all live objects into one area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rest of heap is then availabl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integration of data traversal and copying proces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xample: semispace collecto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heap is divided into two contiguous semispac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nly one is in us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C copies live data to other semispac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EE9-7D5D-415E-BAC7-67425842FA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6T04:00:07Z</dcterms:created>
  <dc:creator>Joachim Feise</dc:creator>
  <dc:description/>
  <dc:language>en-US</dc:language>
  <cp:lastModifiedBy>Joachim Feise</cp:lastModifiedBy>
  <cp:lastPrinted>1997-05-30T03:13:45Z</cp:lastPrinted>
  <dcterms:modified xsi:type="dcterms:W3CDTF">1997-06-05T03:00:15Z</dcterms:modified>
  <cp:revision>9</cp:revision>
  <dc:subject/>
  <dc:title>Garbage Coll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cs.uci.edu/~jfeise</vt:lpwstr>
  </property>
  <property fmtid="{D5CDD505-2E9C-101B-9397-08002B2CF9AE}" pid="9" name="LinkColor">
    <vt:r8>16711782</vt:r8>
  </property>
  <property fmtid="{D5CDD505-2E9C-101B-9397-08002B2CF9AE}" pid="10" name="MailAddress">
    <vt:lpwstr>jfeise@ics.uci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E:\JOE\UCI\Spring 97\Advanced Compiler Construction\Presentation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