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A8F-BB70-4B6C-A5C7-F3334882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6C6-9B39-4461-AE2C-D05C8163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131-B11B-4333-B856-AE182C79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481-4C38-48F2-8151-9B845374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77F-0FDF-4919-83D3-8BC428A5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A20-D1CC-4868-888E-1872B702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ED83-9F3C-430C-B586-D4D0DB94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F594-56D7-4B36-881A-B51E13D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FC68-9535-44D6-9CA1-C94E758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E152-26C5-4C4E-8D58-7DC77953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11EA-ADBF-41B3-B10D-891B8ED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238-52C8-4453-A777-E03B9646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E2D7-4E14-447B-A384-8824316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5E5-2835-4417-A992-E98E86D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316F-2250-4ED8-B06D-B916B491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9444-301A-4149-9A32-D389579F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9C24-ED9A-4007-9047-8CAEF2AE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960-882C-4F76-81E2-366CE075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86B-F8BB-4797-A62B-E243E240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77E-6F62-46C8-93A0-1340202F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9BB-1F79-4811-BF2F-FB0BC78B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980-9FAF-4514-B1D5-0A81ADE3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A49-8DC3-4B62-AD76-B780B6D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C04-C606-4F19-9CF1-D85247D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9EA-2F25-423C-8D25-C685E08B2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CE4-45F0-41BF-AF2A-20C0E1297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Where is the return on CMM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achim Fe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feise@ics.uci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S2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ytheon Productivity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equivalent delivered source instructions per man-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and reused LOC are weighted according to the relative effort of modification or reuse compared to new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cientifically accurate because of variations amo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22E-D9D1-48C3-AF3B-1F43BFFF34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ytheon Productivity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2" name="S_raytheon2" descr=""/>
          <p:cNvPicPr/>
          <p:nvPr/>
        </p:nvPicPr>
        <p:blipFill>
          <a:blip r:embed="rId1"/>
          <a:stretch/>
        </p:blipFill>
        <p:spPr>
          <a:xfrm>
            <a:off x="1981080" y="1461960"/>
            <a:ext cx="5791320" cy="524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230-0FF2-4B9D-AD76-894E823039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ata from a wider range of US Industry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rom 35 companies and government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levels of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 Level 1-3, all organizations at Level 4 and 5 particip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geographical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F94-9703-46ED-B6D0-5A532AB93C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st of Process Improve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828800"/>
          <a:ext cx="8381880" cy="54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38188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B9F-A27A-456C-9356-BACC95E226E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Metric Categori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ty: Resources, Requirements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: Reporting, Statistics, De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ty: LOC, new LOC, reus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ort: Estimation, Rework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: Milestones,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: Module Development, Design, Test, R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088-6E89-4515-8251-9DF0286DF6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verage Number of Metric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7240" y="1974960"/>
          <a:ext cx="788544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74960"/>
                    <a:ext cx="788544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DF8-73F0-43DB-90A4-08D3B07D0F5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enefits of Process Improve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44" name="S_benefits" descr=""/>
          <p:cNvPicPr/>
          <p:nvPr/>
        </p:nvPicPr>
        <p:blipFill>
          <a:blip r:embed="rId1"/>
          <a:stretch/>
        </p:blipFill>
        <p:spPr>
          <a:xfrm>
            <a:off x="1981080" y="1460520"/>
            <a:ext cx="5791320" cy="525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963-29D2-46F7-8910-51D3CAEF7C1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productivity seems to be more important that cost sav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s don’t benefit directly from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time completion and staying within budget becomes the n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leads to repeat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E2D-AE71-49C7-AD9C-8E33A9A135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Attitud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veloper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over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employee turn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cooperation &amp; communication between function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mprovements may be partially root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wthorn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9C8-2364-4E43-9E4C-0B176F8480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Problem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rganizations use the CMM as a vehicle for software process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 Does the CMM provide real benefi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ancial ga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improve produ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quality of the software getting any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• 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B54-44AD-4D03-BBA8-19768CFA35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developed by SEI at the request of the DoD in 19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Maturit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ably represent the historical phases of evolutionary improvement of actual software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a measure of improvement that is reasonable to achieve from the prio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interim improvement goals and progress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obvious a set of immediate improvement priorities, once an organization’s status is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477-84FD-46D9-A331-00FF42AE6C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carcity of Published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DoD contractors and one government organization have released data documenting their return on investment for software proces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9810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though much is written about the topic in qualitative terms, little quantitative information is available. In many ways, the engineering process is an informational ‘black hole’ -- it draws in money and resources like a magnet but little data emerges.” (Howard Rub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B69-F3C4-4526-970B-B9D5AEE958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Published Return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th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7:1 return on investment, savings of $4.48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ion of $15.8M in rework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fold increase in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ghes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:1 ratio of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savings of approximately $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nker Air Forc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:1 ratio of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ings of $3.8M for $0.64M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1BF-81DC-4D12-9D2D-807C861670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Validity of Published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basel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observed process improvement attributable to the CM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e data obtained by comparing “Apples and Oranges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0F4-27CA-427F-BE74-FCEC957CCF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ata Collection - Cost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ing the cost of doing it right the first time from the cost of r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zation of th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: design and coding it right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aisal: Testing to determin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ork: cost of fixing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on: costs to prevent faults from getting into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quality: sum of appraisal, rework, pre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B3F-1D7C-418A-80E4-9ED0966260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avings at Raythe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6" name="S_raytheon1" descr=""/>
          <p:cNvPicPr/>
          <p:nvPr/>
        </p:nvPicPr>
        <p:blipFill>
          <a:blip r:embed="rId1"/>
          <a:stretch/>
        </p:blipFill>
        <p:spPr>
          <a:xfrm>
            <a:off x="1905120" y="1471680"/>
            <a:ext cx="6095880" cy="51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A28-170F-46EF-8114-26FE1BF973C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avings at Raythe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increases and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defects during design: 2.5 times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defects during coding: 1.75 times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: decrease by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sting: decrease by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5FD-0A23-4E6A-B95C-FC50492A62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08:29:51Z</dcterms:created>
  <dc:creator>Joachim Feise</dc:creator>
  <dc:description/>
  <dc:language>en-US</dc:language>
  <cp:lastModifiedBy>Joachim Feise</cp:lastModifiedBy>
  <cp:lastPrinted>1997-12-04T00:20:24Z</cp:lastPrinted>
  <dcterms:modified xsi:type="dcterms:W3CDTF">1998-04-27T03:16:42Z</dcterms:modified>
  <cp:revision>12</cp:revision>
  <dc:subject/>
  <dc:title>Where is the return on CMM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ics.uci.edu/~jfeise</vt:lpwstr>
  </property>
  <property fmtid="{D5CDD505-2E9C-101B-9397-08002B2CF9AE}" pid="9" name="LinkColor">
    <vt:r8>16711782</vt:r8>
  </property>
  <property fmtid="{D5CDD505-2E9C-101B-9397-08002B2CF9AE}" pid="10" name="MailAddress">
    <vt:lpwstr>jfeise@ics.uci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I:\Joe\UCI\Fall 97\Software Processes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