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C8A-7D01-4328-986B-239ADACF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DDA-5D68-4672-92CA-BC99D901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FA4-A7A0-467A-ABB6-27504596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F39-2E49-4ACD-80B5-094A0357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1A22-C4C4-4C12-AFB2-7E19170C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9FE3-4012-4B27-85F2-FF2DCD40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57CA-D8AA-44B2-9D7A-05D03678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998C-3ACB-4043-B050-7257241B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CE59-44A6-40A7-8E15-7C128E2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D318-C440-4A9D-9997-6725E233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3B85-A1A4-4FBD-AAB2-D5F367D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DD2-182E-43C1-8D32-47E199AA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9B39-2C26-46F8-ACD2-F5A1506A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33F3-F46E-4AA1-A31C-5E14BE01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3D54-1C26-4FF2-980F-50D94059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3121-E5FF-44FE-A8A1-2739B359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3948-5BCC-46F2-8370-D8773AAE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322-5131-4FD4-A1AD-0B1A1D68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C26-F00C-4139-A5C2-398CCFA1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3F5-EABC-4A17-94B3-457F6F5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84A-38D8-4CCC-A145-64407354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D8C-462B-4B23-B133-5BF3295E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4A8-719C-49AF-A9C0-8E095B2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7CD-77A9-4E17-B771-F3005BA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51D-FC90-4A5B-A32E-D083BE901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D077-BDF4-4FDE-8F04-A30EDACFB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Where is the return on CMM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achim Fe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feise@ics.uci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S2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aytheon Productivity D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equivalent delivered source instructions per man-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and reused LOC are weighted according to the relative effort of modification or reuse compared to new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cientifically accurate because of variations amo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6A0-E86B-4E2A-8644-FC68506F60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aytheon Productivity D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2" name="S_raytheon2" descr=""/>
          <p:cNvPicPr/>
          <p:nvPr/>
        </p:nvPicPr>
        <p:blipFill>
          <a:blip r:embed="rId1"/>
          <a:stretch/>
        </p:blipFill>
        <p:spPr>
          <a:xfrm>
            <a:off x="1981080" y="1461960"/>
            <a:ext cx="5791320" cy="524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156-B1EE-4AA9-A5B2-2BB9CF5CE96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ata from a wider range of US Industry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from 35 companies and government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levels of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ly Level 1-3, all organizations at Level 4 and 5 particip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us geographical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84D-3622-4B6C-A4B0-7D31A14F89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ost of Process Improvemen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828800"/>
          <a:ext cx="8381880" cy="54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38188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A3F-CE0D-43B8-BF79-0A5CD78FE97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Metric Categori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ty: Resources, Requirements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: Reporting, Statistics, Defect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ty: LOC, new LOC, reus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ort: Estimation, Rework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: Milestones, 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: Module Development, Design, Test, R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638-DB30-4BE6-A02A-348B58EBB9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Average Number of Metric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7240" y="1974960"/>
          <a:ext cx="788544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974960"/>
                    <a:ext cx="788544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193-EE40-4CC4-86B7-16AFA2236D3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Benefits of Process Improvemen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44" name="S_benefits" descr=""/>
          <p:cNvPicPr/>
          <p:nvPr/>
        </p:nvPicPr>
        <p:blipFill>
          <a:blip r:embed="rId1"/>
          <a:stretch/>
        </p:blipFill>
        <p:spPr>
          <a:xfrm>
            <a:off x="1981080" y="1460520"/>
            <a:ext cx="5791320" cy="525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E2E-BBB8-4287-8687-C3CE25DA6FD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onclusion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in productivity seems to be more important that cost sav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s don’t benefit directly from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time completion and staying within budget becomes the n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leads to repeat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151-4E11-417B-BA6D-A4D0904090F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onclusion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Attitud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eveloper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over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employee turn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cooperation &amp; communication between functional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mprovements may be partially root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wthorn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92D-D27D-4246-9280-F973E1A801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he Problem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rganizations use the CMM as a vehicle for software process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 Does the CMM provide real benefi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ancial ga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it improve produc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quality of the software getting any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• 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41D-7E3C-45F5-9A00-3043DA2B3A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Background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developed by SEI at the request of the DoD in 19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Maturity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ably represent the historical phases of evolutionary improvement of actual software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a measure of improvement that is reasonable to achieve from the prio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interim improvement goals and progress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obvious a set of immediate improvement priorities, once an organization’s status is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AC0-F7FA-4A9F-A94A-70B2E5B4BF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carcity of Published D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2 DoD contractors and one government organization have released data documenting their return on investment for software proces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9810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though much is written about the topic in qualitative terms, little quantitative information is available. In many ways, the engineering process is an informational ‘black hole’ -- it draws in money and resources like a magnet but little data emerges.” (Howard Rub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223-F443-425F-B8E4-4DBADB1803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Published Return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th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7:1 return on investment, savings of $4.48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ion of $15.8M in rework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fold increase in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ghes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:1 ratio of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savings of approximately $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nker Air Forc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:1 ratio of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ings of $3.8M for $0.64M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565-9728-4814-A158-D34B536353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Validity of Published Data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basel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observed process improvement attributable to the CM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the data obtained by comparing “Apples and Oranges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31B-AD0A-460B-AE38-03D766FC63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Data Collection - Cost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ing the cost of doing it right the first time from the cost of r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zation of th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: design and coding it right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aisal: Testing to determin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ork: cost of fixing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on: costs to prevent faults from getting into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quality: sum of appraisal, rework, pre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468-9FFB-4CB2-A5D7-F8E2FFD763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avings at Raythe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6" name="S_raytheon1" descr=""/>
          <p:cNvPicPr/>
          <p:nvPr/>
        </p:nvPicPr>
        <p:blipFill>
          <a:blip r:embed="rId1"/>
          <a:stretch/>
        </p:blipFill>
        <p:spPr>
          <a:xfrm>
            <a:off x="1905120" y="1471680"/>
            <a:ext cx="6095880" cy="51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E6A-32B9-41AB-BF71-93BF43AC146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Savings at Raythe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increases and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ing defects during design: 2.5 times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ing defects during coding: 1.75 times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: decrease by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sting: decrease by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1F9-E169-4158-BA2D-F677227330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. 4, 199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08:29:51Z</dcterms:created>
  <dc:creator>Joachim Feise</dc:creator>
  <dc:description/>
  <dc:language>en-US</dc:language>
  <cp:lastModifiedBy>Joachim Feise</cp:lastModifiedBy>
  <cp:lastPrinted>1997-12-04T00:20:24Z</cp:lastPrinted>
  <dcterms:modified xsi:type="dcterms:W3CDTF">1998-04-27T03:16:42Z</dcterms:modified>
  <cp:revision>12</cp:revision>
  <dc:subject/>
  <dc:title>Where is the return on CMM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ics.uci.edu/~jfeise</vt:lpwstr>
  </property>
  <property fmtid="{D5CDD505-2E9C-101B-9397-08002B2CF9AE}" pid="9" name="LinkColor">
    <vt:r8>16711782</vt:r8>
  </property>
  <property fmtid="{D5CDD505-2E9C-101B-9397-08002B2CF9AE}" pid="10" name="MailAddress">
    <vt:lpwstr>jfeise@ics.uci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I:\Joe\UCI\Fall 97\Software Processes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